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1EF-8888-4A05-81A4-CB38D1CC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C1E-E14B-4B1F-9312-D3A45CB6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F42-D26A-43A6-9CCF-BF9B8CF1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78E-1EBD-4C6C-BF45-ED225D72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9139-8968-47D3-BA25-560E6B63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5FDD-7027-46A1-8480-1E1B1D68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DDF8-ABC3-4BF2-94D6-C5E9D2DE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5BC0-6AA2-4759-9A99-03B447E2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05A1-2A1D-4FC0-8C7E-80908764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E0DF-3497-4461-B5A8-EA51306E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98E4-5576-4A08-BAE6-789354FE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E95-D8B2-499B-8CE0-ADB38542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852A-F4F2-4D6B-B126-95E91F7F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52CE-704E-4EBD-ADE4-A1DDFC8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45AB-B7CF-4F46-9512-7840273E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56B6-C873-4A4B-B488-CEE0B1F5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650E-2C51-4C97-B570-6790DE2A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23D-9185-4D74-B736-27DA3FDD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5FB-F23E-47DF-9CF5-D76930DF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F5B-702B-4083-B95F-C1B8E645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706-21C5-487A-92C5-FA5B23A3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F5D-B754-4899-8142-AF86037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99C-ABEB-4622-94D8-6731FBE3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8BD-D4F9-4BF2-9D16-BA34F0A2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0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F4DFD-EB1C-4643-B6F2-80A3FC75376E}" type="datetime">
              <a:rPr b="0" lang="en-US" sz="1200" spc="-1" strike="noStrike">
                <a:solidFill>
                  <a:srgbClr val="2f2f2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26A97-B89A-4F99-9A0D-FC2582735769}" type="slidenum">
              <a:rPr b="0" lang="en-US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0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7DCCB-0D8E-463A-8045-303F5907C778}" type="datetime">
              <a:rPr b="0" lang="en-US" sz="1200" spc="-1" strike="noStrike">
                <a:solidFill>
                  <a:srgbClr val="d9d4c7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76FF8-EEFB-4178-A8B6-8A75B7A87758}" type="slidenum">
              <a:rPr b="0" lang="en-US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858080" cy="2000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hapter 14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6204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ost of an atom is empty space occupied by nearly massless electron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ectrically neutral particles, neutrons, are also located in the nucleu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number of electrons equals the number of protons in an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Rutherford_atomic_model"/>
          <p:cNvPicPr/>
          <p:nvPr/>
        </p:nvPicPr>
        <p:blipFill>
          <a:blip r:embed="rId1"/>
          <a:stretch/>
        </p:blipFill>
        <p:spPr>
          <a:xfrm>
            <a:off x="2749680" y="1828800"/>
            <a:ext cx="3644640" cy="4111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01480" y="9748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501480" y="974880"/>
            <a:ext cx="559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im26"/>
          <p:cNvPicPr/>
          <p:nvPr/>
        </p:nvPicPr>
        <p:blipFill>
          <a:blip r:embed="rId1"/>
          <a:stretch/>
        </p:blipFill>
        <p:spPr>
          <a:xfrm>
            <a:off x="270000" y="1571760"/>
            <a:ext cx="84931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cont</a:t>
            </a:r>
            <a:r>
              <a:rPr b="0" lang="ja-JP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7000" y="1558800"/>
            <a:ext cx="586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erford was shocked when some alpha particles were veering off at large a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vely charged alpha particles were moving with such high speed that it would take a large positive charge to cause them to bounce b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erford and his team had to come up with an explanation for these unexpected resu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im30"/>
          <p:cNvPicPr/>
          <p:nvPr/>
        </p:nvPicPr>
        <p:blipFill>
          <a:blip r:embed="rId1"/>
          <a:stretch/>
        </p:blipFill>
        <p:spPr>
          <a:xfrm>
            <a:off x="5894280" y="1400040"/>
            <a:ext cx="32497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501480" y="974880"/>
            <a:ext cx="74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cont</a:t>
            </a:r>
            <a:r>
              <a:rPr b="0" lang="ja-JP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01480" y="1828800"/>
            <a:ext cx="430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ypothesized that almost all the mass of the atom and all of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charge are crammed into an incredibly small region of space at the center of the atom called the nucle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m28"/>
          <p:cNvPicPr/>
          <p:nvPr/>
        </p:nvPicPr>
        <p:blipFill>
          <a:blip r:embed="rId1"/>
          <a:stretch/>
        </p:blipFill>
        <p:spPr>
          <a:xfrm>
            <a:off x="5067360" y="1558800"/>
            <a:ext cx="3695760" cy="3548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501480" y="586116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20 scientists identified the positive charges in the nucleus a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The 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501480" y="1819440"/>
            <a:ext cx="788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utr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electrons have almost no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Rutherfor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odel, the only other particle in the atom was the prot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t that the mass of an atom should have been approximately equal to the mass of it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t was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The 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501480" y="1819440"/>
            <a:ext cx="788040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most atoms is at least twice as great as the mass of it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proposed that another particle must be in the nucleus to account for the extra m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icle, which was later call the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neu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ould have the same mass as a proton and be electrically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another 20 years before scientists were able to show by more modern experiments that atoms contain neu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Ne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im35"/>
          <p:cNvPicPr/>
          <p:nvPr/>
        </p:nvPicPr>
        <p:blipFill>
          <a:blip r:embed="rId1"/>
          <a:stretch/>
        </p:blipFill>
        <p:spPr>
          <a:xfrm>
            <a:off x="4800600" y="1828800"/>
            <a:ext cx="3848040" cy="3838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44280" y="1828800"/>
            <a:ext cx="475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of the atom was revised again to include the newly discovered neutron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Further Developments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n into the twentieth century, physicists were working on a theory to explain how electrons are arranged in an at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hysicist named Niels Bohr even calculated exactly what energy levels those orbits would represent for the hydrogen ato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ever, scientists soon learned that electrons are in constant, unpredictable motion and ca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 be described easily by an orbi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934640"/>
            <a:ext cx="3505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modern day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lectron cloud mode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xplains the unpredictable wave behavior of electrons, which could be anywhere in the area surrounding the nucleu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0240" indent="-300240"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5" descr="atomic_cloud_model"/>
          <p:cNvPicPr/>
          <p:nvPr/>
        </p:nvPicPr>
        <p:blipFill>
          <a:blip r:embed="rId1"/>
          <a:stretch/>
        </p:blipFill>
        <p:spPr>
          <a:xfrm>
            <a:off x="3962520" y="2133720"/>
            <a:ext cx="5181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Greek philosophers devised a theory of atoms, or tiny particl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ohn Dalton combined the idea of elements with the Greek theory of the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Matter is made up of atom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toms cannot be divided into smaller piec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ll atoms of an element are exactly alik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fferent elements are made of different ato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1028" descr="Dalton_atomic_model"/>
          <p:cNvPicPr/>
          <p:nvPr/>
        </p:nvPicPr>
        <p:blipFill>
          <a:blip r:embed="rId1"/>
          <a:stretch/>
        </p:blipFill>
        <p:spPr>
          <a:xfrm>
            <a:off x="3657600" y="3048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Title 1"/>
          <p:cNvSpPr/>
          <p:nvPr/>
        </p:nvSpPr>
        <p:spPr>
          <a:xfrm>
            <a:off x="1371600" y="3048120"/>
            <a:ext cx="228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Dalton</a:t>
            </a:r>
            <a:r>
              <a:rPr b="0" lang="ja-JP" sz="2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s Model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alt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theory was tested by William Crookes and his cathode-ray tube experim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581280" y="3160800"/>
            <a:ext cx="43434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4"/>
          <p:cNvSpPr/>
          <p:nvPr/>
        </p:nvSpPr>
        <p:spPr>
          <a:xfrm>
            <a:off x="457200" y="1295280"/>
            <a:ext cx="80931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dow showed Crookes that something was traveling in a straight line from the cathode (-) to the anode (+), similar to the beam of a flash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oss-shaped object was getting in the way of the beam and blocking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im10"/>
          <p:cNvPicPr/>
          <p:nvPr/>
        </p:nvPicPr>
        <p:blipFill>
          <a:blip r:embed="rId1"/>
          <a:stretch/>
        </p:blipFill>
        <p:spPr>
          <a:xfrm>
            <a:off x="5257800" y="4307040"/>
            <a:ext cx="3505320" cy="228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77"/>
          <p:cNvSpPr/>
          <p:nvPr/>
        </p:nvSpPr>
        <p:spPr>
          <a:xfrm>
            <a:off x="457200" y="4307040"/>
            <a:ext cx="4800600" cy="26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okes hypothesized that the green glow in the tube was caused by rays, or streams of p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026"/>
          <p:cNvSpPr/>
          <p:nvPr/>
        </p:nvSpPr>
        <p:spPr>
          <a:xfrm>
            <a:off x="609480" y="1371600"/>
            <a:ext cx="784872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cientists were not convinced that the cathode rays were streams of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897, J.J. Thomson, an English physicist, tried to clear up th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placed a magnet beside the tube from Crooke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experiments. The beam is bent in the direction of the mag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cannot be bent by a magnet, so the beam must be made up of charged particles of matter that came from the catho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312372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758880" indent="-42696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omson revised Dalt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 to include a sphere with a positive charge and negatively charged electrons spread evenly within the positiv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58880" indent="-42696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negatively charged electrons and the positive charge in the sphere neutralized each othe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58880" indent="-4269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228600" y="1600200"/>
            <a:ext cx="8229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.J Thomson discovered negatively charged particles,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which are a part of every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90720" y="77616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oms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thompson_atomic_model"/>
          <p:cNvPicPr/>
          <p:nvPr/>
        </p:nvPicPr>
        <p:blipFill>
          <a:blip r:embed="rId1"/>
          <a:stretch/>
        </p:blipFill>
        <p:spPr>
          <a:xfrm>
            <a:off x="2629080" y="19051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arnest Rutherford tested Thoms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, which was found to be an inaccurate model of the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-47304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n atomic model with a nucleus was develop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40960" indent="-4730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ositively charged proton is located in a very small space at the center of an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40960" indent="-4730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43:58Z</dcterms:created>
  <dc:creator>Denice Fogel</dc:creator>
  <dc:description/>
  <dc:language>en-US</dc:language>
  <cp:lastModifiedBy>St. Aloysius</cp:lastModifiedBy>
  <cp:lastPrinted>2011-03-24T03:42:03Z</cp:lastPrinted>
  <dcterms:modified xsi:type="dcterms:W3CDTF">2012-10-17T15:18:27Z</dcterms:modified>
  <cp:revision>76</cp:revision>
  <dc:subject/>
  <dc:title>Inside the Atom</dc:title>
</cp:coreProperties>
</file>